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0E2-5937-44A9-B598-0946975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225-8764-4624-92FC-3E69BB77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07A-368C-4A6D-A5CB-7BC120F1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1C4-DC22-4F6B-A94E-FA5614C0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8282-1D06-4BA2-8D47-4B91818F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1A9B-0FC3-44BC-9F28-B64D788D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076C-1A68-42B2-AF3F-B1EB65ED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42B4-72AF-4DFB-B08C-09FF9F63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E5DD-442F-4A77-8358-DC0DB243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92AE-79D5-42E5-AA12-1FE39EE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3741-4DB6-4365-B4EE-8035B796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420-F76B-4DC2-9C18-4E73AA6B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DB38-7904-46D0-85D3-53491EF0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1798-67B2-4713-B730-4E40E12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9C5A-24BB-427B-99B6-F37AF0D6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50CC-F60F-4336-A766-651DD512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3F10-D13B-4F8B-969C-69B58BC9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C65-F33A-4AF1-9EA3-9A25AB4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970-77FF-498F-A721-3A9164F2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028-B755-48B6-807D-92E6C3C2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068-2731-44EF-BB08-1C71AF67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B24-1BD6-4F99-B429-8DC34C7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562-C876-4099-94E2-BD989CD3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B2D-B5F2-4C56-96FB-AEF548BE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0601-42EC-4492-B156-23E712AD2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9B66-E0CB-4AB4-A17B-DAE465B22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o Tell The Good News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t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2, Lesso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of 1 Corinthians 8-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143-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1602-5C51-4012-A087-59C705B63420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gifts, but the same Spir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activities, but the same God who works all in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gifts are given individually by the Spirit for the profit of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 has set function and abilities of different kinds in the church and they are not in competition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5F7-BD43-46FE-BE83-F2E2F55B0F9A}" type="slidenum">
              <a:t>10</a:t>
            </a:fld>
          </a:p>
        </p:txBody>
      </p:sp>
    </p:spTree>
  </p:cSld>
  <p:transition>
    <p:comb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one Spirit we were all baptized into one body, but the body is not one member but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estly desire the best gifts, yet love is a more excellent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ever gift we might have, even if we give our bodies to be burned and don’t have love, we are not prof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never fails, spiritual gifts will c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7CD-7917-4DC5-AF77-86FA7DCD6536}" type="slidenum">
              <a:t>11</a:t>
            </a:fld>
          </a:p>
        </p:txBody>
      </p:sp>
    </p:spTree>
  </p:cSld>
  <p:transition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at which is perfect is come, then that which is in part will be don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will abide faith, hope and love, but the greatest of these is l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to edify, to teach by your g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orderly, God is not the source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the women be silent (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ot taking a public ro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 in the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562-EBE4-48CC-8DBB-F27A743967CF}" type="slidenum">
              <a:t>12</a:t>
            </a:fld>
          </a:p>
        </p:txBody>
      </p:sp>
    </p:spTree>
  </p:cSld>
  <p:transition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ch there is no resu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is no resurrection from the dead then Christ is not ri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hrist is not risen, then preaching is vain and faith is vain and all are still in 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sen and has become the firstfruits of those who hav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will reign until all enemies are destroyed and the last enemy destroyed i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4A2-FA92-48EC-AC15-704EEB0053FC}" type="slidenum">
              <a:t>13</a:t>
            </a:fld>
          </a:p>
        </p:txBody>
      </p:sp>
    </p:spTree>
  </p:cSld>
  <p:transition>
    <p:comb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rning the collection for the sa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first day of the week let each one of you lay something a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as you have been prosp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 exho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ch, stand fast in the faith, be brave, be st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all that you do be done with l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007-593E-4578-B7CB-2DE9DD447CD0}" type="slidenum">
              <a:t>14</a:t>
            </a:fld>
          </a:p>
        </p:txBody>
      </p:sp>
    </p:spTree>
  </p:cSld>
  <p:transition>
    <p:comb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911-6E6F-4788-A746-DD5C2C085E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ing things offered to idol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knowledge but it can puff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edifies and seeks to do what is good for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dol is a god, it is nothing and there is no other God but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t sacrificed to idols is not contamin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at about the weak brot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3B9-10DE-4A3B-9C4E-E8A69A5871D0}" type="slidenum">
              <a:t>3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e right to eat meat sacrificed to idols cause another to defile his consci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ware lest our liberty cause a weak brother to st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tates, “if food makes my brother stumble, I will never again eat mea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aid that he had “rights”, but he hadn’t used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, am I not an apostle? Am I not free? Are you not my work in the Lord? Do we have no right to eat and drin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150-94E3-4577-AADD-D3EACDBF23C5}" type="slidenum">
              <a:t>4</a:t>
            </a:fld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had lived in whatever style necessary in order to convert men to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 your goal and strive for a c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rive for a perishable crown, but we for an imperishabl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: “I discipline my body and bring it into subjection lest I myself should become disqualifie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ewish fathers were baptized into Moses, all ate the same spiritual food and drank the same spiritual drink ,yet most of them displeased G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example is our w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E83-B0EA-4776-93F6-06437B83E0E9}" type="slidenum">
              <a:t>5</a:t>
            </a:fld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become idolaters, do not commit sexual immorality, do not tem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him who thinks he stands take heed lest he 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e idolatry and judge for yourselves, the cup of blessing , is it not the communion of the blood of Christ? The bread which we break, is it not the communion of the body of Chri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be joined to the Lord and to the Devil at the sam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CF3-0A82-447B-AA6A-2D9CCA50858D}" type="slidenum">
              <a:t>6</a:t>
            </a:fld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ings that are lawful may not be helpful or edif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ffered meat without comment, eat it ,but if told it was offered to idols, don’t eat it for the sake of the one who told you and for conscience’ s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tate Paul just as he also imitated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80C-449E-4FCC-9886-68821D7F1B54}" type="slidenum">
              <a:t>7</a:t>
            </a:fld>
          </a:p>
        </p:txBody>
      </p:sp>
    </p:spTree>
  </p:cSld>
  <p:transition>
    <p:checker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d cov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head over man and man is head over wo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man who prays or prophesies with his head covered dishonors his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woman who prays or prophesies with her head uncovered dishonors her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 is the image and glory of God, but woman is the glory of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778-6B6A-4492-A263-B10C54072895}" type="slidenum">
              <a:t>8</a:t>
            </a:fld>
          </a:p>
        </p:txBody>
      </p:sp>
    </p:spTree>
  </p:cSld>
  <p:transition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ake of the Lord’s supper with proper rev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make it a common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hungry, eat and drink in your own ho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artaking of the Lord’s supper, wait for one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read represents Christ’s body and the cup represents Christ’s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ust eat and drink in a worthy manner discerning the Lord’s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3C5-EBB8-4CCF-A51A-5A7716681C93}" type="slidenum">
              <a:t>9</a:t>
            </a:fld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5:56:07Z</dcterms:created>
  <dc:creator>billy lauderdale</dc:creator>
  <dc:description/>
  <dc:language>en-US</dc:language>
  <cp:lastModifiedBy>billy lauderdale</cp:lastModifiedBy>
  <dcterms:modified xsi:type="dcterms:W3CDTF">2006-12-21T22:05:11Z</dcterms:modified>
  <cp:revision>31</cp:revision>
  <dc:subject/>
  <dc:title>Go Tell The Good News Part 2</dc:title>
</cp:coreProperties>
</file>